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334-76CD-42D2-BDB5-84E8725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DCD-E346-4F05-91EA-8C9E1C35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EC4-816C-41CD-9612-7DF988793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BE6-5369-4024-AD99-431D6820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FEEE-D598-4D0D-A022-E1CDA5D3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14DA-53EC-4697-AB87-C1F9C7C7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689-CEE6-4F05-83B3-7C8FF5F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1C3-0C05-420D-B396-EE0F7760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ACC-7641-4B19-A1E5-BFAEA967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D2C-293A-4AE4-8D9A-E4B6359F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729-37E0-4836-B689-4B64EBD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71E-BC6B-49F4-929A-ECDA0002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E153-6D52-4D10-AE97-A31125AEE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the Days of King Adobe</a:t>
            </a:r>
            <a:br>
              <a:rPr sz="2800"/>
            </a:b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Interactive Vocabulary PowerPoi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o go “Slide Show” and click “View”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ype your name or class name in the white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lick “your mouse or go to the left corner of the screen and hit “next” or the arrow” to get to the first vocabulary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ook over the pictures and definitions of each vocabulary word. Go to the first white box and type in a definition using your own words.  Do NOT copy the one you s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3733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n go to the second box and  type one or more sentences using that vocabulary word sh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lick “enter” to go to the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o this for each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ce done, go to file at the top and find “save as”.  Save the powerpoint with your initials followed by the name of this 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19320"/>
            <a:ext cx="4038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your name in the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10080" y="27432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2411280"/>
          <a:ext cx="2793960" cy="22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11280"/>
                    <a:ext cx="2793960" cy="22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categoryImage" descr=""/>
          <p:cNvPicPr/>
          <p:nvPr/>
        </p:nvPicPr>
        <p:blipFill>
          <a:blip r:embed="rId3"/>
          <a:srcRect l="16302" t="0" r="17178" b="0"/>
          <a:stretch/>
        </p:blipFill>
        <p:spPr>
          <a:xfrm>
            <a:off x="2819520" y="3962520"/>
            <a:ext cx="2273040" cy="248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80880" y="2590920"/>
            <a:ext cx="2019600" cy="1854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34960" y="105480"/>
            <a:ext cx="21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thrif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4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20" y="2456280"/>
            <a:ext cx="65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859680"/>
            <a:ext cx="48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you are careful spending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1120" y="3805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81480" y="35812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2320" y="-46800"/>
            <a:ext cx="326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gener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Lots of presents" descr=""/>
          <p:cNvPicPr/>
          <p:nvPr/>
        </p:nvPicPr>
        <p:blipFill>
          <a:blip r:embed="rId1"/>
          <a:srcRect l="0" t="0" r="6667" b="0"/>
          <a:stretch/>
        </p:blipFill>
        <p:spPr>
          <a:xfrm>
            <a:off x="685800" y="2743200"/>
            <a:ext cx="3809880" cy="2886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609840" y="1522800"/>
            <a:ext cx="41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large, plentiful, lots of,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62720" y="2743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nnochio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1554120" cy="1554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graphicFrame>
        <p:nvGraphicFramePr>
          <p:cNvPr id="63" name=""/>
          <p:cNvGraphicFramePr/>
          <p:nvPr/>
        </p:nvGraphicFramePr>
        <p:xfrm>
          <a:off x="2971800" y="4724280"/>
          <a:ext cx="1523880" cy="15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4724280"/>
                    <a:ext cx="1523880" cy="1524240"/>
                  </a:xfrm>
                  <a:prstGeom prst="rect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8640" y="-46800"/>
            <a:ext cx="273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ascal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2960" y="1408680"/>
            <a:ext cx="94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2240" y="1775520"/>
            <a:ext cx="52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8320" y="707400"/>
            <a:ext cx="387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ughty, bad, or dishon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4120" y="5331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26161" r="0" b="0"/>
          <a:stretch/>
        </p:blipFill>
        <p:spPr>
          <a:xfrm>
            <a:off x="990720" y="3276720"/>
            <a:ext cx="3022560" cy="311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38240" y="-76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-427320"/>
            <a:ext cx="269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ogu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9680" y="127440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7000" y="1415880"/>
            <a:ext cx="358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to be trusted,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ting to tell the truth</a:t>
            </a:r>
            <a:br>
              <a:rPr sz="7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4120" y="228240"/>
            <a:ext cx="350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 Write the definition of the word in YOUR OWN WORDS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! (Do not copy the definition post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10080" y="33526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. Type a sentence or two using the vocabulary word in the box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49200" y="3616200"/>
          <a:ext cx="182880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9200" y="3616200"/>
                    <a:ext cx="182880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92280" y="3110040"/>
          <a:ext cx="2504880" cy="192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2280" y="3110040"/>
                    <a:ext cx="2504880" cy="19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intrigued" descr=""/>
          <p:cNvPicPr/>
          <p:nvPr/>
        </p:nvPicPr>
        <p:blipFill>
          <a:blip r:embed="rId5"/>
          <a:srcRect l="0" t="0" r="0" b="7064"/>
          <a:stretch/>
        </p:blipFill>
        <p:spPr>
          <a:xfrm>
            <a:off x="990720" y="2971800"/>
            <a:ext cx="3017880" cy="3475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763560" y="1818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fascinat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8160" y="2469240"/>
            <a:ext cx="6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9880" y="3018240"/>
            <a:ext cx="30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42760" y="175140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mazed, intrigued, won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20:40:24Z</dcterms:created>
  <dc:creator>Stacy Bodin</dc:creator>
  <dc:description/>
  <dc:language>en-US</dc:language>
  <cp:lastModifiedBy>Stacy Bodin</cp:lastModifiedBy>
  <dcterms:modified xsi:type="dcterms:W3CDTF">2007-12-29T18:37:06Z</dcterms:modified>
  <cp:revision>28</cp:revision>
  <dc:subject/>
  <dc:title>Slide 1</dc:title>
</cp:coreProperties>
</file>